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suctio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AF7-0431-4D16-8932-71E633D6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D9D-7B1A-4B50-A580-15FC4C9C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EEC-E3F7-41E9-A364-7276F8C8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7AF-DD67-4357-96AF-B93DC245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161A-FC03-4D80-A975-A0387141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0B97-4DB4-40C8-A8FD-7E72A37F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EF7B-8FD3-4262-9B47-FDB681AA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1338-B790-4AA0-8F46-E5C750EF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56F1-7543-4C8F-A995-0EF914E2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0CA1-3144-424C-9FD1-FFBE6911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D5AE-64EB-4E3B-A182-0218B155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025-58C0-44C4-87E6-798EC3CB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66F8-9F8A-490B-AE4E-69EAB602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CF26-424F-4E8A-ACBA-917C5B7B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D5DB-3A01-4296-BC2E-19F56CE6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25F5-B45E-43EC-8562-CE013931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1F79-02AF-46A5-B9F5-2E8C389B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7BD-9A98-4396-B34A-59AEAB18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C36-9C26-4A41-AA00-B728B9E6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7B5-B8FC-4FBA-866B-990058AD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8F1-F036-463F-8F7F-0DD39506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698-BA1F-40D1-960D-2ED4C11A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E6F-1C6C-4523-88A1-9A7A25A0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CFA-F055-423C-8122-725261B7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9341-9484-40AE-9145-D1A58C9CA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5EDC-F88E-4FD0-89F7-722358D05B5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92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826920" y="1700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安全伴我在校园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我把安全带回家</a:t>
            </a:r>
            <a:r>
              <a:rPr b="0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!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95280" y="170028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．不要慌张，发现周围有人时立即呼救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．放松全身，让身体飘浮在水面上，将头部浮出水面，用脚踢水，防止体力丧失，等待救援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．身体下沉时，可将手掌向下压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．如果在水中突然抽筋，又无法靠岸时，立即求救。如周围无人，可深吸一口气潜入水中，伸直抽筋的那条腿，用手将脚趾向上扳，以解除抽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0920" y="189000"/>
            <a:ext cx="74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溺水时的自救方法：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08000" y="11592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四、防疾病安全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059280" y="494172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隶书"/>
              </a:rPr>
              <a:t>生病了要及时报告老师，以便及早治疗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11280" y="1916280"/>
            <a:ext cx="691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防流感、病毒性感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防呼吸道传染，如咳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防肠道传染，如饮食不卫生而得痢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近期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7N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有些地方时有发生，不要接近或吃病鸡等禽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39640" y="1341360"/>
            <a:ext cx="82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在安全的问题上，我们必须要防范在先、警惕在前，无论做什么事，都要记着安全第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！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42920" y="530064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安全你我他，幸福千万家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258920" y="1052640"/>
            <a:ext cx="40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华文行楷"/>
                <a:ea typeface="华文行楷"/>
              </a:rPr>
              <a:t>2016</a:t>
            </a:r>
            <a:r>
              <a:rPr b="0" lang="zh-CN" sz="4800" spc="-1" strike="noStrike">
                <a:solidFill>
                  <a:srgbClr val="007a77"/>
                </a:solidFill>
                <a:latin typeface="华文行楷"/>
                <a:ea typeface="华文行楷"/>
              </a:rPr>
              <a:t>年春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0" y="2565360"/>
            <a:ext cx="914400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c5900"/>
                </a:solidFill>
                <a:latin typeface="Arial"/>
                <a:ea typeface="华文隶书"/>
              </a:rPr>
              <a:t>   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隶书"/>
              </a:rPr>
              <a:t>开学安全教育第一课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                                                       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马嘶中心校八年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39640" y="836640"/>
            <a:ext cx="86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主要强调的几个方面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1955880"/>
            <a:ext cx="8316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华文隶书"/>
                <a:ea typeface="华文隶书"/>
              </a:rPr>
              <a:t>          </a:t>
            </a:r>
            <a:r>
              <a:rPr b="1" lang="en-US" sz="4800" spc="-1" strike="noStrike">
                <a:solidFill>
                  <a:srgbClr val="007a77"/>
                </a:solidFill>
                <a:latin typeface="华文隶书"/>
                <a:ea typeface="华文隶书"/>
              </a:rPr>
              <a:t>1.  </a:t>
            </a:r>
            <a:r>
              <a:rPr b="1" lang="zh-CN" sz="4800" spc="-1" strike="noStrike">
                <a:solidFill>
                  <a:srgbClr val="007a77"/>
                </a:solidFill>
                <a:latin typeface="华文隶书"/>
                <a:ea typeface="华文隶书"/>
              </a:rPr>
              <a:t>交通安全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华文隶书"/>
                <a:ea typeface="华文隶书"/>
              </a:rPr>
              <a:t>          </a:t>
            </a:r>
            <a:r>
              <a:rPr b="1" lang="en-US" sz="4800" spc="-1" strike="noStrike">
                <a:solidFill>
                  <a:srgbClr val="007a77"/>
                </a:solidFill>
                <a:latin typeface="华文隶书"/>
                <a:ea typeface="华文隶书"/>
              </a:rPr>
              <a:t>2.  </a:t>
            </a:r>
            <a:r>
              <a:rPr b="1" lang="zh-CN" sz="4800" spc="-1" strike="noStrike">
                <a:solidFill>
                  <a:srgbClr val="007a77"/>
                </a:solidFill>
                <a:latin typeface="华文隶书"/>
                <a:ea typeface="华文隶书"/>
              </a:rPr>
              <a:t>校园安全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华文隶书"/>
                <a:ea typeface="华文隶书"/>
              </a:rPr>
              <a:t>          </a:t>
            </a:r>
            <a:r>
              <a:rPr b="1" lang="en-US" sz="4800" spc="-1" strike="noStrike">
                <a:solidFill>
                  <a:srgbClr val="007a77"/>
                </a:solidFill>
                <a:latin typeface="华文隶书"/>
                <a:ea typeface="华文隶书"/>
              </a:rPr>
              <a:t>3.  </a:t>
            </a:r>
            <a:r>
              <a:rPr b="1" lang="zh-CN" sz="4800" spc="-1" strike="noStrike">
                <a:solidFill>
                  <a:srgbClr val="007a77"/>
                </a:solidFill>
                <a:latin typeface="华文隶书"/>
                <a:ea typeface="华文隶书"/>
              </a:rPr>
              <a:t>防溺水安全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华文隶书"/>
                <a:ea typeface="华文隶书"/>
              </a:rPr>
              <a:t>          </a:t>
            </a:r>
            <a:r>
              <a:rPr b="1" lang="en-US" sz="4800" spc="-1" strike="noStrike">
                <a:solidFill>
                  <a:srgbClr val="007a77"/>
                </a:solidFill>
                <a:latin typeface="华文隶书"/>
                <a:ea typeface="华文隶书"/>
              </a:rPr>
              <a:t>4.  </a:t>
            </a:r>
            <a:r>
              <a:rPr b="1" lang="zh-CN" sz="4800" spc="-1" strike="noStrike">
                <a:solidFill>
                  <a:srgbClr val="007a77"/>
                </a:solidFill>
                <a:latin typeface="华文隶书"/>
                <a:ea typeface="华文隶书"/>
              </a:rPr>
              <a:t>防疾病安全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835280" y="170028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Picture 5" descr="c47"/>
          <p:cNvPicPr/>
          <p:nvPr/>
        </p:nvPicPr>
        <p:blipFill>
          <a:blip r:embed="rId1"/>
          <a:stretch/>
        </p:blipFill>
        <p:spPr>
          <a:xfrm>
            <a:off x="4356000" y="476280"/>
            <a:ext cx="4788000" cy="6162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8360" y="981000"/>
            <a:ext cx="158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Picture 7" descr="01"/>
          <p:cNvPicPr/>
          <p:nvPr/>
        </p:nvPicPr>
        <p:blipFill>
          <a:blip r:embed="rId2"/>
          <a:stretch/>
        </p:blipFill>
        <p:spPr>
          <a:xfrm>
            <a:off x="0" y="549360"/>
            <a:ext cx="4356000" cy="6308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0" y="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一、交通安全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11280" y="692280"/>
            <a:ext cx="72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9a5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国每年因各类事故死亡人数约１０万人，道路交通事故死亡人数占６０％以上。我国的交通事故死亡人数位居世界首位，平均每天有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80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人死于车祸。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其中中小学生占总人数的８％左右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个数字向人们敲响警钟，追根溯源，安全意识淡薄，麻痹大意，违章违纪是造成交通事故的根本原因。</a:t>
            </a:r>
            <a:r>
              <a:rPr b="1" lang="zh-CN" sz="3600" spc="-1" strike="noStrike">
                <a:solidFill>
                  <a:srgbClr val="7979a5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826920" y="189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交通安全提醒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0920" y="119700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要遵守交通法规，基本常识有：行人靠右行，不闯红灯，不跨越护栏，横穿路心时要左顾右盼看是否有车辆经过，不脱把骑车，不骑“英雄”车，不跳车，不扒车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学生骑自行车要达到“三有”，即“有铃”、“有刹”、“有锁”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不乘坐“三无”车，即“无牌”、“无证”、“无照”，这样的车若出了安全问题，费用难以保证，更谈不上赔偿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坚决不乘坐超员车辆。每年因超员超载引发的校车安全事故占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80%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乘车时不向窗外招手探头，乘车须抓紧扶手，车停稳后再下车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注意上学和放学安全，在上学和放学时要抓紧时间，不要在路上玩耍；更不要在公路上乱穿，不在马路中间行走，要走马路两旁人行道；过马路不得翻越栏杆和隔离墩，要走人行横道线，还要注意来往车辆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4920" y="11592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二、校园安全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042920" y="220500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0" y="1700280"/>
            <a:ext cx="914400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禁止携带有伤害他人的工具进入校园，如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管制刀具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水果刀、仿真手枪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 学生不得在教室内、走廊和楼道口打闹、跑跳等活动 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上下楼梯有秩序，人多时不得推、挤，有耐心、 不着急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与同学和睦相处，不能寻衅滋事，引发矛盾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禁止攀爬高层和危险物，如走廊的栏杆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住寝室的同学不许将校外的人带进寝室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学校要求：</a:t>
            </a:r>
            <a:r>
              <a:rPr b="1" lang="zh-CN" sz="2800" spc="-1" strike="noStrike">
                <a:solidFill>
                  <a:srgbClr val="ff0066"/>
                </a:solidFill>
                <a:latin typeface="华文行楷"/>
                <a:ea typeface="华文行楷"/>
              </a:rPr>
              <a:t>树立安全意识，提升安全素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34920" y="11592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三、防溺水安全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68360" y="322272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近年来的中小学生溺水死亡事故，多发生在周末、节假日或放学后；多发生在农村地区；多发生在无人看管的江河、池塘等野外水域；多发生在学生自行结伴游玩的过程中，有的是结伴下水游泳溺亡，有的是为救落水同伴致多人溺亡；多发生在小学生和初中生中，男生居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900000" y="1916280"/>
            <a:ext cx="158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注意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16000" y="1989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96720" y="2276640"/>
            <a:ext cx="849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私自下水游泳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擅自与同学结伴游泳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在没有家长或老师带领的情况下游泳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到无安全设施、无救护人员的水域游泳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到不熟悉的水域游泳，以防溺水安全事故发生。同时，以现实生活中学生溺水身亡的事例教育学生，敲响学生心里的安全警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826920" y="98100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遵守“五不”原则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08:54:50Z</dcterms:created>
  <dc:creator>AFZXX.LXK</dc:creator>
  <dc:description/>
  <dc:language>en-US</dc:language>
  <cp:lastModifiedBy>Administrator</cp:lastModifiedBy>
  <dcterms:modified xsi:type="dcterms:W3CDTF">2016-03-01T15:23:17Z</dcterms:modified>
  <cp:revision>9</cp:revision>
  <dc:subject>开学安全教育第一课</dc:subject>
  <dc:title>2014年春安全教育课</dc:title>
</cp:coreProperties>
</file>